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78E-DDE8-4D14-B448-B869FB92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0FD-EB7C-43B6-A152-2D579DB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A14-75B2-4D2F-B7B3-01262A3F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281-D5FB-4F9E-8BF7-8564ACE2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485-3C2B-4FBD-8F1C-93BCFFA3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EFC-F890-4EEA-ABFA-069661EA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9BB-20F0-4557-86D3-B06FE053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708-4D2D-4C80-841B-FE43AEBF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60D-3C19-4710-8C07-B427C1FF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DD5-AF96-459D-A7FC-11A1B35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EE6-E644-44BE-8014-4A3A000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006-51C5-4E00-9DC7-32ED40C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0EE3-B5B0-4C97-AA44-D71B0F9651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876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28640" y="23320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           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Creating        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Anchor Charts 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Lucida Handwriting"/>
              </a:rPr>
              <a:t>with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94200" y="304920"/>
            <a:ext cx="490212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2666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 Char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626080" cy="644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19920" y="251460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Reading Tip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095880" cy="522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27400" y="55119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757760" cy="6119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514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5148000" cy="6257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15000" y="25146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Genre Feat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8120" y="228600"/>
            <a:ext cx="5867280" cy="544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715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Questio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486400" cy="4921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27400" y="55119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Descrip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502272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56386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Reading Remind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176720" cy="5410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27400" y="55119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Inferr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556320" cy="504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55627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Comparing with a Ven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66680"/>
            <a:ext cx="7924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What they are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charts based on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ions that are created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during th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formats:  web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ainstorms, KWL, Venn Diagram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sts, T charts, timelines, story map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column charts, draw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828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0666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99072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Why we make them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ust like an anchor keeps a boat in place, they are a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f “holding” or “anchoring” thinking for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kes student thinking visible and concr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serve as a visual reminder or artifact of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arning that helps students remember a less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ategy, or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remain in the classroom for students who n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inuous reminders or scaffolding – they don’t 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rased like a chalkboard or white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allow students to make connections from 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ategy to another, clarify a point, or build on earli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y show students that their thinking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06668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How to make them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chor charts are always co-constructed with the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pture student thinking precisely – use their 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nguage instead of trying to “fix up” their thinking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rror your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eep the chart focused on one particular strategy or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ke charts that are clear and organized so students c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nderstand them – graphic organizers work we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rts are tied to a learning goal, objective, or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se language appropriate to the developmental level of y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t ideas from commercially-made concept posters, and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uild a class discussion to replicate the poster using y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udents’ own language and ideas about the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828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4280" y="260676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Lis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5408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33600" y="81000"/>
            <a:ext cx="506916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9000" y="247968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3 Column Ch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5638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Drawing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292720" cy="632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160" y="260676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Strategi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5604120" cy="662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9920" y="251460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ord Lis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27:02Z</dcterms:created>
  <dc:creator>HISD</dc:creator>
  <dc:description/>
  <dc:language>en-US</dc:language>
  <cp:lastModifiedBy>HISD</cp:lastModifiedBy>
  <dcterms:modified xsi:type="dcterms:W3CDTF">2009-04-09T17:15:53Z</dcterms:modified>
  <cp:revision>20</cp:revision>
  <dc:subject/>
  <dc:title>Slide 1</dc:title>
</cp:coreProperties>
</file>